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BBEB-6DF9-48A9-98AC-AB31C0268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3E01-C238-4D31-9E5F-F1F9C8A1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721F-121B-43C9-82FC-09852571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D902-B64E-4F87-A4B5-AE5ECE74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50DB-BA69-44B1-AB30-C66EB450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0AB94-92FD-49CA-930D-A2BB0163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97ACB-EA1D-4419-B9F8-BBDEE658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60AA7-1E76-4962-BE88-4F1EA76E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17614-E2DA-4C22-A192-240B1DBB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FF838-2433-4B7E-8961-1FA93FB6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75E3D-B299-4170-8F50-D899CC0F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9A4F7-E310-4345-9433-DEED40CE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783A-E205-4485-9309-CF9BEC76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8D73D-7C51-4961-ACA0-9DC8E5D0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D6F70-3D7C-4EE6-9F8F-9A57BB51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1A302-E20D-4DA7-84C7-1B533F05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46C0A-6E50-4CFE-86AA-0CB1E13B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F24B2-00F0-4E38-8DAF-590C0507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3B428-A4CD-467A-8EC7-7522FAD6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D0F6C-3048-4CD2-BAE8-8D3C47D3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270C2-6083-4C30-B5BB-CE163BB7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60DE9-A309-4130-8F74-2D0735FC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C9326-FCF5-4AEF-9DB3-AB6C2066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00F-4CE7-4ED1-95DE-C95416FB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0E2AE-0B02-4E01-B2FC-9562A197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97C5E-1E29-44D8-9799-162126F2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A8345-B1E7-4531-A670-C14C8842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0BFF3-2D82-4CD7-AC15-A58CBB8F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12262-6049-43BA-B490-E9FA247C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03289-14D3-419C-9E3E-E7C90930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02465-2653-4A74-9D5F-58B56EB3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3E23E-CB33-4B4E-8DC7-7C551A56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4C707-B8E4-4450-BDFF-33CA5E65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1045C-62FF-4A0F-837A-6F085350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836-58F0-4600-BB49-642AB0DE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9A734-FB59-4754-96C1-704F6201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1BA6A-DB69-400A-95C0-9549D639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92660-0430-4DED-A374-D3F393C6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90423-C7BC-4071-B916-3C5E4173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30530-73FC-4E7C-BD1B-86B6D478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76BE7-B140-499F-831E-4F7ED218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C09FF-D559-44FA-AFF8-69AB3367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18952-79B8-4D8F-B46C-777AB33C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0A2E7-1C8B-4EC3-9CA1-B3B79D8B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C4121-601B-4EAC-96DD-3C920CC4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ABE0-AE59-4371-A039-A9E4E2DC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6D2DD-79AB-4A2A-914D-38684A94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041E9-1945-473E-935C-6497B757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0892F-B53A-4B8E-B939-E128980A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D90B1-FAAD-472D-AA94-A55F24E5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5D73B-9C82-4E7A-8813-B4F340F5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899AF-9E0E-4F8C-84FA-A4656512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FB660-D802-448B-8BF6-F1CBA3CC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7F621-7802-44D7-A017-6275F380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3B0A6-B6B2-4E65-9F7C-F446CA02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7F18D-40AC-4945-9430-06E356C5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96D-23E1-4B4E-BDC3-72365180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B23AD-0967-4C6F-A554-DDAD6E16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6F5C-BB43-492A-BD38-51390B8D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775-627C-4020-A5B8-59902465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712E-78A0-4E5C-9008-E9ECD5FD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9A46-1897-422F-92BB-19A9E60BE6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AA0E-11DF-4F53-B640-8E98F73E0C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4594-82C2-4F3D-9E3E-491180F29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6B05-0FDB-488E-914E-75BFBBF6BB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1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DF2E-F17B-4A47-89AA-13540C1EA3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www.google.com/imgres?imgurl=http://wilson2011.wikispaces.com/file/view/inca_map.jpg/196699002/inca_map.jpg&amp;imgrefurl=http://wilson2011.wikispaces.com/Mayas,%2BOlmecs,%2BAztecs,%2Band%2BIncas&amp;h=793&amp;w=647&amp;sz=40&amp;tbnid=eFNlGFeAETFa-M:&amp;tbnh=83&amp;tbnw=68&amp;prev=/search%3Fq%3Dinca%2Bmap%26tbm%3Disch%26tbo%3Du&amp;zoom=1&amp;q=inca+map&amp;docid=GkW0crshEE0EWM&amp;hl=en&amp;sa=X&amp;ei=01jWTtv3OKXm0QHv3tDWAQ&amp;sqi=2&amp;ved=0CDYQ9QEwBA&amp;dur=8127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9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quer of the Aztecs, and 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y Peter Mosqu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0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ide 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itl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ide 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ut and paste these standards into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eb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zte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pital city was Tenochtitlan ,it was weird because it was built in a lake.  The name was Texco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ztecs were polytheis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ztec leader was named Montezu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anish destroyed Tenochitlan and built Mexico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tec map.g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095880" y="4572000"/>
            <a:ext cx="23623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hey lived in South America, An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he capital was Cuzco they wer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polythei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hey had no written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 language  but one spo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hey practiced animal sacrif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hey had a civil war[ a battle between two groups that live in the same country] between brothers destine to be rul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752480" y="685800"/>
            <a:ext cx="1933560" cy="23716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428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3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-7920" y="32454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inca_map.jp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-7920" y="3260160"/>
            <a:ext cx="14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ilson2011.wikispaces.co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37680" y="6490440"/>
            <a:ext cx="65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47 × 793 -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egion inca_map.jpg. Useful Websi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9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4267080"/>
            <a:ext cx="7848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were located in the Yucatan Peninsu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just one major city-was much harder for conquistadors to overthro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were polytheist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religion did not contain as much g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also had  slaves to do there bidding who sometimes gained freedo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9564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ztecs  thought he was there god Quetzalcoat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conquistador who conquered the Azte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onquered them with power but mostly sic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z had 500 men to conquer the Azte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zzar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conquistador that conquered the Incas with 180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took the winner of the civil war captive and said if he joined there religion he would make his death shor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at he killed them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e first saw the Inca empire he was scared and backe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7047000" y="0"/>
            <a:ext cx="1334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y d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onquered the Aztecs and In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killed a lot of the natives but the main threat was germs they brought wit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estroyed some rely big emp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6:00:35Z</dcterms:created>
  <dc:creator>jklib</dc:creator>
  <dc:description/>
  <dc:language>en-US</dc:language>
  <cp:lastModifiedBy>jklib</cp:lastModifiedBy>
  <dcterms:modified xsi:type="dcterms:W3CDTF">2011-11-30T16:28:14Z</dcterms:modified>
  <cp:revision>19</cp:revision>
  <dc:subject/>
  <dc:title>The conquer of the Aztecs, and Incas</dc:title>
</cp:coreProperties>
</file>